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EF3C-EC75-474E-BB76-EF2923BC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4BDB-DE48-407A-A412-C2BE1E30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3697-F214-4F46-96B3-AB8A082E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375D-FDC3-41AA-AE21-0850F22B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DF50-2A25-443E-84DA-60F7FA89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0CBE-3C12-451C-8232-4A197C8B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E61A-F58F-4AEE-B7A8-17F5C2CD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FD52-F9B4-4E7E-AD71-92227699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9AC7-50C9-420A-8AA7-192D960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B904-E189-4FF4-AC5B-4C1D1FB6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582B-2A40-4A6B-8CEA-080853A3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A862-E25C-42DE-B91B-0FEABE79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AC0E-80E4-4B7B-81F9-B1B21A0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D1F2-340E-4670-B5EA-577F679C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C6C2-0D35-4A23-B2A4-68D9AE3C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3A6-05BA-4369-B365-BD8C4266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62A5-2CF9-498B-BFB9-6E9621F8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2064-85F5-4A29-A4FF-DCCB2813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D7A9-2156-4745-BFCB-FFD743DC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92F4-0ABB-429B-A254-6F842FC2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A981-6A94-47D2-9207-C81CB4DE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6689-C557-40AA-B28E-01E90F3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6254-2FC1-4B2E-9798-8568BC2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3B4B-BBB7-426C-8683-7322263D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AE4D-0070-482F-9E6A-B83802A59AF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D05E-6F99-4E0C-9452-2001AA04E78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86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82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В оная паметната н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свършил Свойто дело 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яде за последен пъ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асхално агне в беден къ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70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Учителят, небесен Цар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наший род блажений Да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учениците Сво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зете прашни Той ум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994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Отказва Петър: „Мой Рав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ще ме миеш нивга Ти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ус му рече: „Щом е тъ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ял нямаш с Мен от днес натъй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4994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И каза още наший Спас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туй ви пример давам А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правите един на друг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както вам направих тук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0-09T08:31:25Z</dcterms:modified>
  <cp:revision>221</cp:revision>
  <dc:subject/>
  <dc:title>Slide 1</dc:title>
</cp:coreProperties>
</file>